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5F38-E17D-4116-A704-7D9798D8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AE2-C228-4FB3-A4D9-FD2C8301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D08-CE34-46E3-AD2F-BD5C7882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A7F-21FD-4C44-BD0D-BEC5CCFB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7BE36-B339-419F-9084-4BCE6EE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2B327-0291-4D73-8371-0EE27B8C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73266-FEEF-4E79-BA23-8E0DCEE4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D2EE8-0EFE-4793-A16B-FDF08DDD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61864-5D56-43BD-A07F-D21FEBA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3AD15-6978-4000-982F-B2CB4F30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0EA84-E1D2-4146-AFBA-A8AAB6F3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50F-D6B6-4DC1-B04D-66D789E3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C663C-8C75-46B6-8825-E9C7709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279CB-0D8F-42B8-8D21-F9D5C67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DE16-A20B-4BC9-AE0A-E643B292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CD1C-E394-49BD-B7B1-647F4BA7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E60FE-0D28-4751-A5CB-9C5B8BFBF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26A-01A0-487E-A1FC-34AD5256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4BE-7899-4F3A-ADF8-C431D9D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8A0-1269-48B9-AA26-D126F5F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2A9-E801-4484-B2E8-7D170623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315C-55CD-4FB7-9A0D-40E6919C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5FFE-FDE0-4CEF-8FED-D37035BA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47A5-A532-412B-8E02-F5E6439D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9CE4-2FD9-452C-8FAD-269C0DE09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2EF0-089D-4830-86B8-1DD09CCD6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48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CLIMA </a:t>
            </a:r>
            <a:br>
              <a:rPr sz="6000"/>
            </a:b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Monotype Corsiva"/>
              </a:rPr>
              <a:t>ROM</a:t>
            </a:r>
            <a:r>
              <a:rPr b="0" lang="ro-RO" sz="6000" spc="-1" strike="noStrike">
                <a:solidFill>
                  <a:srgbClr val="ffffff"/>
                </a:solidFill>
                <a:latin typeface="Monotype Corsiva"/>
              </a:rPr>
              <a:t>ÂNIE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358800"/>
            <a:ext cx="8229600" cy="26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67280" y="3352680"/>
            <a:ext cx="243864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6766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Clima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= felul cum se desfăşoară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temperatura,precipitaţiile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şi vântul , într-un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număr mare de ani şi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pe un teritoriu foarte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  înti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Vorbind despre </a:t>
            </a: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vre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avem în veder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temperatu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precipitaţiil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vânt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ff3300"/>
                </a:solidFill>
                <a:latin typeface="Tahoma"/>
              </a:rPr>
              <a:t>Temperatura</a:t>
            </a: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se poate modifica de la o zi la alta, de la o lună la alta, pe perioade nedeterminate de tim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diferă de la un anotimp la altu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-diferă de la o formă de relief la al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ff3300"/>
                </a:solidFill>
                <a:latin typeface="Tahoma"/>
              </a:rPr>
              <a:t>Precipitaţiile</a:t>
            </a: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- variază de la o formă de relief la alta, de la un anotimp la altu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600" spc="-1" strike="noStrike">
                <a:solidFill>
                  <a:srgbClr val="ff3300"/>
                </a:solidFill>
                <a:latin typeface="Tahoma"/>
              </a:rPr>
              <a:t>Vânturile</a:t>
            </a:r>
            <a:r>
              <a:rPr b="0" i="1" lang="ro-RO" sz="36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în timpul iernii suflă Crivăţul, dinspre E sau N-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vânturile dinspre S sunt mai călduţ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ele dinspre V aduc multe precipitaţii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Tahoma"/>
              </a:rPr>
              <a:t>cele din E sunt secetoa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09-11-19T18:54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